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CEB-5223-499E-B0C8-0C64BF7E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834-B855-4DB1-AAA8-39E8DB08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AD4-FDED-4908-9920-AC948679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C6D-23DE-4BA2-847D-7088CC29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D9B-2A95-4115-A2ED-7674AB3D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6A3-95A1-4F2D-A19A-36B30F06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683-AD88-4078-B94C-CFD585E0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A379-9E95-4812-A0D2-A849CE0C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AFA-DD11-45E5-AD4E-52F8FAE4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9A2-DCD2-4D2F-8C74-63BB0447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848-01FF-4AF0-AA14-38405B0F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9B6C-9B72-417C-811A-5FFF49DF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C1AD-2F16-46F3-BABD-1F548BE1C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reemind.sourceforge.net/FreeMind-computer-knowledge.png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289160"/>
            <a:ext cx="8445600" cy="29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vision, Study, and Exam Skil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4578120"/>
            <a:ext cx="661536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nie Bl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nifer.blake@manchest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xam techniques (that you can use to revise)--</a:t>
            </a:r>
            <a:r>
              <a:rPr b="1" lang="en-US" sz="4300" spc="-1" strike="noStrike" u="sng">
                <a:solidFill>
                  <a:srgbClr val="000000"/>
                </a:solidFill>
                <a:uFillTx/>
                <a:latin typeface="Arial"/>
              </a:rPr>
              <a:t>RUNLA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under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--nu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-add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-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y it is not possible, using a single telescope, to directly detect an extra-solar planet by the visible light reflected from its 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aw a Hertzsprung-Russell diagram, clearly labelling the axes. Show the main sequence and regions on the diagram where red giants, blue super-giants, and white dwarfs are loc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Further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swer the “easiest” questions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tempt every ques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ave ten minutes (or more) at the end to check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you get stuck, move on, often the answer will seem more obvious later (and sometimes is found later in the exam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Key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'Times New Roman'"/>
              </a:rPr>
              <a:t>Build relaxation time into your revision schedul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'Times New Roman'"/>
              </a:rPr>
              <a:t>Fear is normal – adrenalin can be usefu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'Times New Roman'"/>
              </a:rPr>
              <a:t>Get an early nigh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'Times New Roman'"/>
              </a:rPr>
              <a:t>Make sure you have breakfas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'Times New Roman'"/>
              </a:rPr>
              <a:t>Be on time (or early if possib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'Times New Roman'"/>
              </a:rPr>
              <a:t>Make sure your exam kit is comple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'Times New Roman'"/>
              </a:rPr>
              <a:t>Read the paper carefully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Key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'Times New Roman'"/>
              </a:rPr>
              <a:t>First 10 minute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Check instruction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Put your name/student number on the paper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Read the question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Work out your panic strategies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'Times New Roman'"/>
              </a:rPr>
              <a:t>After the exam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Avoid the post-mortem, especially if you still have more exam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Make a note of anything you might need to look up before other exam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Celebrate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'Times New Roman'"/>
              </a:rPr>
              <a:t>Relax, sleep well, eat well, and exercise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Revision-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econd lo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a time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purposefully) learn something n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3. Have a pl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4. Gather your resou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Arial"/>
              </a:rPr>
              <a:t>Resources--What do you have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ject resourc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) cours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) syllab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) past pap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) what el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) other students in the cou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) lecturers/academic advis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) family and frie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) who el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Arial"/>
              </a:rPr>
              <a:t>Where to begin?   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rainstor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Where do you feel most confiden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       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re do you feel most nervou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        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did you leave out?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tive Revis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       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out active, planned, revision, we tend to forget over 80% of what we have learned within three week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Timetabl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ake sure you have figured out when your best times to study are. (Are you a morning person? Do you study better after a meal? Do you need to exercise first?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         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     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 u="sng">
                <a:solidFill>
                  <a:srgbClr val="000000"/>
                </a:solidFill>
                <a:uFillTx/>
                <a:latin typeface="Times New Roman"/>
              </a:rPr>
              <a:t>K W 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o we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kn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o we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want to kn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have we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earn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Arial"/>
              </a:rPr>
              <a:t>Some tips and trick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'Times New Roman'"/>
              </a:rPr>
              <a:t>SQP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'Times New Roman'"/>
              </a:rPr>
              <a:t>Survey</a:t>
            </a: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--Gather together your notes and do a general review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'Times New Roman'"/>
              </a:rPr>
              <a:t>Question</a:t>
            </a: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--How do things connect? Reflective Learning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'Times New Roman'"/>
              </a:rPr>
              <a:t>Predict</a:t>
            </a: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--What do you think will be on the exam? What format will the questions take?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'Times New Roman'"/>
              </a:rPr>
              <a:t>Plan</a:t>
            </a: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--What do you need to do to get ready?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'Times New Roman'"/>
              </a:rPr>
              <a:t>Prepare</a:t>
            </a: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--Gather everything you need in one place. Make an anxiety plan for the exam itself.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'Times New Roman'"/>
              </a:rPr>
              <a:t>Practice</a:t>
            </a: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--Revise, revise, revi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Study 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217520"/>
            <a:ext cx="966456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d-webs (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reemi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x C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nell Notes (see exampl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'Times New Roman'"/>
              </a:rPr>
              <a:t>Study groups/ Revision syndica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'Times New Roman'"/>
              </a:rPr>
              <a:t>Study partnershi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'Times New Roman'"/>
              </a:rPr>
              <a:t>Simultaneous revis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'Times New Roman'"/>
              </a:rPr>
              <a:t>Active reca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'Times New Roman'"/>
              </a:rPr>
              <a:t>Timed 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How do you learn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ditory (au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nesthe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re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ote-taking, summaries, Cornell Notes, mind-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ditory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flashcards (repeating the questions and answers outloud), study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nesthetic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ind-maps, Cornell Notes, puzz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'Times New Roman'"/>
              </a:rPr>
              <a:t>Common pitfal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Leaving it until the last minut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Reading through the same notes over and over again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Writing out notes over and over again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Writing out essays and learning them by heart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Procrastina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Can’t force yourself to stud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Panic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Boredom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Too many other prioritie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Stopping too soo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Bakri</cp:lastModifiedBy>
  <dcterms:modified xsi:type="dcterms:W3CDTF">2013-01-15T05:37:28Z</dcterms:modified>
  <cp:revision>3</cp:revision>
  <dc:subject/>
  <dc:title>PowerPoint Presentation</dc:title>
</cp:coreProperties>
</file>